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268-6843-4954-9D72-A9CE25F0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028-96C4-4DD7-98FC-3A10F8F3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B37-4F5E-4383-88E0-EE2E42D8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B3D-A337-48F4-B201-92455CC4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491-2DD6-4DBE-9B67-F464D55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5FA-6BC5-489E-AE6D-52B51E45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930-A3B0-46E5-8370-397203D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853-4593-48F9-B919-6E06C1D9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9E2-D2DA-488D-9E91-D5E55477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1D8-9B99-4052-8CA0-4C1FFA3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9E8-F58C-44AE-AF04-E28AF34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1C3-8A14-4017-AFD0-F50C59DD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3C9-DB64-42DE-B303-592D9BF48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Maria\Local Settings\Temporary Internet Files\Content.IE5\9TLLH0F8\MCj04323870000[1].wmf"/>
          <p:cNvPicPr/>
          <p:nvPr/>
        </p:nvPicPr>
        <p:blipFill>
          <a:blip r:embed="rId1"/>
          <a:stretch/>
        </p:blipFill>
        <p:spPr>
          <a:xfrm>
            <a:off x="0" y="1371600"/>
            <a:ext cx="4495680" cy="521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ason of Adv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MSBD00309_0000[1]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2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the fourth candle represent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t from God through His son, Jesus Chr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2857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white candle in the middle represen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rist candle reminds us that Jesus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ght of the 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ome into our darkness to enlighten us and give us the life of God which we share with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15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Maria\Local Settings\Temporary Internet Files\Content.IE5\BZ7BMXGQ\MCj04354240000[1].wmf"/>
          <p:cNvPicPr/>
          <p:nvPr/>
        </p:nvPicPr>
        <p:blipFill>
          <a:blip r:embed="rId1"/>
          <a:stretch/>
        </p:blipFill>
        <p:spPr>
          <a:xfrm>
            <a:off x="3505320" y="1504800"/>
            <a:ext cx="533376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ghting the can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1- 1 purple cand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2- 2 purple can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3 – 2 purple candles, one pink cand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4- all can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ginning of the church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for the birth of Je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ime for wa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brate by helping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to the nee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Documents and Settings\Maria\Local Settings\Temporary Internet Files\Content.IE5\UUHM9O0I\MCj03635620000[1].wmf"/>
          <p:cNvPicPr/>
          <p:nvPr/>
        </p:nvPicPr>
        <p:blipFill>
          <a:blip r:embed="rId1"/>
          <a:stretch/>
        </p:blipFill>
        <p:spPr>
          <a:xfrm>
            <a:off x="5334120" y="2971800"/>
            <a:ext cx="3198600" cy="27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Maria\Local Settings\Temporary Internet Files\Content.IE5\L7L56DM4\MCBD08206_0000[1].wmf"/>
          <p:cNvPicPr/>
          <p:nvPr/>
        </p:nvPicPr>
        <p:blipFill>
          <a:blip r:embed="rId2"/>
          <a:stretch/>
        </p:blipFill>
        <p:spPr>
          <a:xfrm>
            <a:off x="1219320" y="4572000"/>
            <a:ext cx="27590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pirit of Christ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irit of g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what you should 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should give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should do for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C:\Documents and Settings\Maria\Local Settings\Temporary Internet Files\Content.IE5\MP9W11V2\MPj04277410000[1].jpg"/>
          <p:cNvPicPr/>
          <p:nvPr/>
        </p:nvPicPr>
        <p:blipFill>
          <a:blip r:embed="rId1"/>
          <a:stretch/>
        </p:blipFill>
        <p:spPr>
          <a:xfrm>
            <a:off x="6384960" y="243828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Maria\Local Settings\Temporary Internet Files\Content.IE5\KDJQJ1NL\MPj04309250000[1].jpg"/>
          <p:cNvPicPr/>
          <p:nvPr/>
        </p:nvPicPr>
        <p:blipFill>
          <a:blip r:embed="rId2"/>
          <a:stretch/>
        </p:blipFill>
        <p:spPr>
          <a:xfrm>
            <a:off x="0" y="4495680"/>
            <a:ext cx="3117960" cy="228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Maria\Local Settings\Temporary Internet Files\Content.IE5\QGD8MG63\MPj04277390000[1].jpg"/>
          <p:cNvPicPr/>
          <p:nvPr/>
        </p:nvPicPr>
        <p:blipFill>
          <a:blip r:embed="rId3"/>
          <a:stretch/>
        </p:blipFill>
        <p:spPr>
          <a:xfrm>
            <a:off x="3238560" y="4419720"/>
            <a:ext cx="308592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ppens in early wi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ing for life, we wait for the light of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le is the color of Ad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is the color of Christ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6400800" y="304920"/>
            <a:ext cx="1827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circle of the Advent wreath represen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ircle has no beginning or an e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ircle of the Advent wreath represents that God is so great that God never had a beginning and will never have an e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reath is a circle, causing us to remember the eternity of God's love for us and for all hum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286680" y="4105440"/>
            <a:ext cx="2857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the evergreens tell u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greens stay green all ye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vergreens tell us that God never 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ecked with green boughs, causing us to remember the newness of life we have in Christ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867280" y="4091040"/>
            <a:ext cx="2859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the first candle repres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people of Israel that someone would come save them and the period of waiting for the birth of Chri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candle reminds us of the prophets'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God's salvation to come, as Isaiah prophes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20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the second candle repres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God has given through His son Jesus Christ and the preparation for the Christ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2971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the third candle repres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f sharing Chr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ird candle reminds us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shepherds as they heard the good news of Jesus' arriv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3276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1:19:12Z</dcterms:created>
  <dc:creator>Maria Marrocco</dc:creator>
  <dc:description/>
  <dc:language>en-US</dc:language>
  <cp:lastModifiedBy>Maria</cp:lastModifiedBy>
  <dcterms:modified xsi:type="dcterms:W3CDTF">2013-12-01T15:43:07Z</dcterms:modified>
  <cp:revision>11</cp:revision>
  <dc:subject/>
  <dc:title>The season of Advent</dc:title>
</cp:coreProperties>
</file>